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comehere.wav" ContentType="audio/x-wav"/>
  <Override PartName="/ppt/media/image2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13C7-078C-4034-90F9-F3BE1D3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720-8F62-4888-B03D-551531B7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59D-5FB1-4A95-A3FE-9EDE1935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DBD-9D62-4735-810C-F9714E76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52C-C25D-49AD-8A4E-03E291D0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D33-B7EF-46EC-915A-211F681B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37C-85E8-4BA4-B277-E9DD031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9C7-00D9-4A8D-B1D2-D742FF6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6B3-11CC-4D79-AF66-355F2622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BE4-0C63-4483-98F3-084319F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177-D55A-4963-AFB7-19A3F273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20C-3448-4CB6-8DDE-C07E697A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5DD-692E-48F6-A294-8C2F643B2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hyperlink" Target="http://www.bbc.co.uk/nature/wildfacts/factfiles/picpops/908.shtml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omeher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YS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aks of Finch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42000" t="19335" r="10000" b="35337"/>
          <a:stretch/>
        </p:blipFill>
        <p:spPr>
          <a:xfrm>
            <a:off x="990720" y="2057400"/>
            <a:ext cx="716256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7002" t="17999" r="5003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36001" t="17999" r="4001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36001" t="17999" r="5003" b="22000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37002" t="17999" r="5003" b="220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Over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in a population, there ar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ffspring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du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n each generation than can possibly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rv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resources; lik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oo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water,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pac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vailable to a population is limi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ause there are many organisms with similar nutritional requirements, there must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etween them for the resources needed to surv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ari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mong members of a population make some of them better adapted to the environmen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generally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st-adap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dividuals that will surv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vironment is the agen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lection determining which species will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3160" y="1219320"/>
            <a:ext cx="4830840" cy="518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4002" t="12669" r="16000" b="9998"/>
          <a:stretch/>
        </p:blipFill>
        <p:spPr>
          <a:xfrm>
            <a:off x="457200" y="95400"/>
            <a:ext cx="8153280" cy="675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nvironment determines which traits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nefici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vival of an organism in a particular habit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ed traits “good” tend to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tain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ssed o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selection involves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ggl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organisms to survive and reproduce in a given enviro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Traits which ar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eneficia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the survival of an organism in a particular environment tend to b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etain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assed 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and therefor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ncrea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frequency within a popul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Natural Sel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raits which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urvival value to an organism ten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min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frequency from generation to generation.  Ex: ALB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environmental conditions change, traits that have low survival value may now have a greater survival valu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fore, traits that prove to b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vor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der new environmental conditions will increase in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 Insects resistant to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sectic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make-up of some insects make the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ista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effects of insectic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the widespread use of insecticides, this trait was of no particular survival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increased use of insecticides, this trait developed a very hig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rviv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insects with resistance to insecticides survived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oduc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ch more successfully than those lacking the tra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insecticide resistance has increased greatly in insect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Rat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istan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rodenticid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t Immu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981520" cy="39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066840" cy="4572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1714680" cy="2505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Norway Rat"/>
          <p:cNvPicPr/>
          <p:nvPr/>
        </p:nvPicPr>
        <p:blipFill>
          <a:blip r:embed="rId4"/>
          <a:stretch/>
        </p:blipFill>
        <p:spPr>
          <a:xfrm>
            <a:off x="6553080" y="914400"/>
            <a:ext cx="1714680" cy="1486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Brown rat investigates wooden box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5715000"/>
            <a:ext cx="1885680" cy="857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rown rat asleep in nest"/>
          <p:cNvPicPr/>
          <p:nvPr/>
        </p:nvPicPr>
        <p:blipFill>
          <a:blip r:embed="rId7"/>
          <a:stretch/>
        </p:blipFill>
        <p:spPr>
          <a:xfrm>
            <a:off x="228600" y="3657600"/>
            <a:ext cx="2362320" cy="17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Repro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69800"/>
            <a:ext cx="82296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viduals that survive and then reproduce transmit thes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tion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o their off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peci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velopment of 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species occurs as variations or adaptations accumulate in a population over many gener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:  common ancestor 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Chimpanzees &amp;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ehe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345960"/>
            <a:ext cx="8686800" cy="6512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1880" y="347760"/>
            <a:ext cx="8218440" cy="616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81200" y="0"/>
            <a:ext cx="5781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45960"/>
            <a:ext cx="868680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rvival of the Fit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0002" t="19335" r="8999" b="22000"/>
          <a:stretch/>
        </p:blipFill>
        <p:spPr>
          <a:xfrm>
            <a:off x="609480" y="-44280"/>
            <a:ext cx="8001000" cy="69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8004" t="17999" r="5999" b="23335"/>
          <a:stretch/>
        </p:blipFill>
        <p:spPr>
          <a:xfrm>
            <a:off x="304920" y="0"/>
            <a:ext cx="8610480" cy="676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7002" t="17999" r="5003" b="23335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CCONE POWERPOI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9:13:12Z</dcterms:created>
  <dc:creator>JOE SAC</dc:creator>
  <dc:description/>
  <dc:language>en-US</dc:language>
  <cp:lastModifiedBy>Eastchester Union Free School District</cp:lastModifiedBy>
  <dcterms:modified xsi:type="dcterms:W3CDTF">2006-06-20T19:22:16Z</dcterms:modified>
  <cp:revision>3</cp:revision>
  <dc:subject/>
  <dc:title>NYS Lab Beaks of Finches</dc:title>
</cp:coreProperties>
</file>